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C6C-AE91-41C5-B27F-2952CE97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F5FF-1E1B-4877-B317-8F1229FC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774-3397-477C-BA81-1B0C07E5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D96-5C2C-4E47-AA63-CD929859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CF4-61E7-45F9-B771-7B121E3C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B6F-E0EC-4423-83D0-C5F21467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106-7C23-4E53-970F-4CAE7248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F5BE-F25B-484A-BF61-641CD045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720-A0E8-4E06-83CE-A6E9D090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4BA-893A-4CA7-BB65-132F6509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7DF-C458-4B7F-8D61-C7A8837A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0E57-DBF0-4126-ADBC-2275A320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6cb"/>
            </a:gs>
            <a:gs pos="100000">
              <a:srgbClr val="bbb5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FA71-7E2E-47C5-A38E-BDB62DDA7B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рис 1"/>
          <p:cNvPicPr/>
          <p:nvPr/>
        </p:nvPicPr>
        <p:blipFill>
          <a:blip r:embed="rId1"/>
          <a:stretch/>
        </p:blipFill>
        <p:spPr>
          <a:xfrm>
            <a:off x="1476360" y="476280"/>
            <a:ext cx="585936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76040" y="1341360"/>
            <a:ext cx="8785440" cy="5277600"/>
          </a:xfrm>
          <a:prstGeom prst="rect">
            <a:avLst/>
          </a:prstGeom>
          <a:solidFill>
            <a:srgbClr val="fafd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едатель КЧС и П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Глава (зам. главы) администрации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й заместитель председателя КЧС и ПБ —  Заместитель главы администрации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ститель председателя КЧС и ПБ   - Начальник отдела по делам ГО и ЧС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лены комис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ервый заместитель главы администрации район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управления экономического развития район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отдела по управлению районным хозяйств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административно-организационного отде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РОВ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УГПС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итель военного комиссариа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отдела здравоохран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отдела по торговле и продовольстви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й государственный санитарный врач Роспотребнадзо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управления по образованию и культур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47680" y="189000"/>
            <a:ext cx="8642160" cy="703440"/>
          </a:xfrm>
          <a:prstGeom prst="rect">
            <a:avLst/>
          </a:prstGeom>
          <a:gradFill rotWithShape="0">
            <a:gsLst>
              <a:gs pos="0">
                <a:srgbClr val="898b72"/>
              </a:gs>
              <a:gs pos="50000">
                <a:srgbClr val="fafdcf"/>
              </a:gs>
              <a:gs pos="100000">
                <a:srgbClr val="898b72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ОСТАВ КЧС и П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76040" y="404640"/>
            <a:ext cx="8785440" cy="6192360"/>
          </a:xfrm>
          <a:prstGeom prst="rect">
            <a:avLst/>
          </a:prstGeom>
          <a:solidFill>
            <a:srgbClr val="fafd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автотранспортной службы район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юридического отде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района теплосе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 МУП ЖК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кабельной сети район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финансового управ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межрайонного эксплуатационного управ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отдела учета и распределения жилой площади район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отделения ГИБД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службы связи и опове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кретарь комиссии по ЧС района— главный специалист дежурной службы администрации рай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персонального состава КЧС и ПБ объекта могут формироваться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перативные группы.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ивные группы предназначены для выявления причин ухудшения обстановки на отдельных участках объекта, выработки предложений и принятия мер по предотвращению чрезвычайных ситуаций, организации защиты персонала и окружающей среды непосредственно в районе бед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14200" y="214200"/>
            <a:ext cx="8785440" cy="6497280"/>
          </a:xfrm>
          <a:prstGeom prst="rect">
            <a:avLst/>
          </a:prstGeom>
          <a:solidFill>
            <a:srgbClr val="fafd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 оперативной группы определяет председатель КЧС в зависимости от типа, характера и масштабов чрезвычайной ситуации. Однако для организации ликвидации в оперативном порядке аварий и катастроф, возникающих непосредственно на объекте, председатель КЧС может определить состав оперативной группы заблаговрем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перативные группы, выделяемые из состава КЧС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тивная группа КЧС района №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оперативной группы — первый зам. главы адм. рай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лены оперативной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чальник отдела по управлению районным хозяйств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пециалист по делам ГО и ЧС райо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отдела здравоохра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тивная группа КЧС района №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оперативной группы — начальник административно-организационного от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лены оперативной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чальник теплосети район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чальник отделения ГИБД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главный государственный санитарный врач Роспотребнадзора райо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 МУП ЖКХ рай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84040" y="942840"/>
            <a:ext cx="8713800" cy="588528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за осуществлением мероприятий по предупреждению и ликвидации ЧС, а также обеспечение надежности работы потенциально опасных объек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наблюдения и контроля за состоянием окружающей природной среды и потенциально опасных объектов, прогнозирование чрезвычайных ситу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готовности органов управления, сил и средств к действиям в Ч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ие в разработке и реализации территориальных программ по предупреждению и ликвидации Ч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резервов финансовых и материальных ресур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действие с другими КЧС и ПБ, военным командованием и общественными объединениями по вопросам предупреждения и ликвидации ЧС, а в случае необходимости — принятие решения о направлении сил и средств для оказания помощи этим комиссиям по ликвидации Ч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ство работами по ликвидации ЧС, привлечение трудоспособного населения к этим рабо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 и организация эвакуации, размещения и возвращения населения после ликвидации ЧС в места постоянного прожи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сбора и обмена информацией в области защиты населения и территорий о Ч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84040" y="189000"/>
            <a:ext cx="8642520" cy="703440"/>
          </a:xfrm>
          <a:prstGeom prst="rect">
            <a:avLst/>
          </a:prstGeom>
          <a:gradFill rotWithShape="0">
            <a:gsLst>
              <a:gs pos="0">
                <a:srgbClr val="898b72"/>
              </a:gs>
              <a:gs pos="50000">
                <a:srgbClr val="fafdcf"/>
              </a:gs>
              <a:gs pos="100000">
                <a:srgbClr val="898b72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сновные задачи КЧС и П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14280" y="0"/>
            <a:ext cx="8713800" cy="667980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ЧС и ПБ района в соответствии с возложенными на нее задачами проводит следующие меропри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ует прогнозирование и оценку обстановки на территории района, которая может сложиться в результате ЧС природного и техногенного характера, разрабатывает и планирует проведение мероприятий по предупреждению ЧС, защите населения, уменьшению ущерба и поте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Разрабатывает планы действий по предупреждению и ликвидации ЧС природного и техногенного х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онтролирует деятельность ведомств, организаций и предприятий в решении задач по предупреждению и ликвидации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Вводит на территории района режимы функционирования звеньев РС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рганизует подготовку органов управления и сил звеньев РСЧС, обучение населения действиям в условиях угрозы или возникновения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14200" y="333360"/>
            <a:ext cx="8713800" cy="619236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азрабатывает и вносит на рассмотрение администрации района проекты решений по вопросам предупреждения и ликвидации ЧС, обеспечения промышленной и экологическ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Участвует совместно с другими органами управления в рассмотрении вопросов размещения и деятельности потенциально опасных производ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Организует защиту сельскохозяйственных животных, растений, продовольствия, пищевого сырья, кормов, водоисточников и систем водоснабжения от радиоактивного загрязнения (заражения), химического и бактериологического (биологического) за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Организует работу по привлечению общественных организаций и граждан к проведению мероприятий по предупреждению и ликвидации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0"/>
            <a:ext cx="9144000" cy="714816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ЧС и ПБ имеет пра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ts val="22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 пределах своей компетенции принимать решения обязательные для исполнения структурными подразделениями и спасательными службами объ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ts val="22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онтролировать работу по предупреждению и ликвидации ЧС в структурных подразделениях, направлять их руководителям для исполнения решения комиссии о принятии необходимых мер, заслушивать на своих заседаниях отчеты руководителей об исполнении этих реш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ts val="22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ивлекать органы надзора, ведущих специалистов к проведению проверок и экспертиз потенциально  опасных участков производства по вопросам обеспечения безопасности персонала и населения, окружающей среды, а также к контролю за реализацией мероприятий, направленных на уменьшение последствий от возможных аварий, катастроф, стихийных бедств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ts val="22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ивлекать   формирования, технические и транспортные средства объекта для ликвидации последствий Ч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ts val="22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иостанавливать функционирование отдельных участков и объекта в целом при непосредственной угрозе возникновения Ч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ts val="22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участвовать в рассмотрении проектов, схем размещения производственных объектов и застрой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ts val="22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и необходимости может устанавливать на объекте в соответствии со сложившейся обстановкой режим функционирования объектового звена с докладом в вышестоящую комиссию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14200" y="285840"/>
            <a:ext cx="8713800" cy="631188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дседатель комиссии,  как руководитель ликвидации ЧС, вправе  самостоятельно принимать реш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проведении эвакуационных мероприят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 остановке деятельности предприятий, находящихся в зонах Ч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 ограничении доступа людей в зоны Ч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разбронировании резервов материальных ресурсов  для ликвидации Ч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привлечении на добровольной основе населения к проведению неотложных работ, а также отдельных граждан, не являющихся спасателями, с их согласия к проведения АС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привлечении к проведению работ по ликвидации ЧС нештатных общественных АСФ, а также спасателей, при наличии у них документов, подтверждающих их аттест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47680" y="1201680"/>
            <a:ext cx="8713800" cy="558036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воему предназначению среди документов, разрабатываемых органами управления ГО и ЧС, выделя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тив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е подразделяются на докумен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о управлению (планы, приказы, решения. распоряжения. карты, схемы,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перативно-информационные (донесения, сводки, сообщения, отче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билизацио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документы, относящиеся к подготовке и проведению мобилизацион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министративно-организацио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ы касаются повседневной организаторской, административной, учебной и хозяйственной деятельности органов управления и сил ГО и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47680" y="189000"/>
            <a:ext cx="8713800" cy="703440"/>
          </a:xfrm>
          <a:prstGeom prst="rect">
            <a:avLst/>
          </a:prstGeom>
          <a:gradFill rotWithShape="0">
            <a:gsLst>
              <a:gs pos="0">
                <a:srgbClr val="898b72"/>
              </a:gs>
              <a:gs pos="50000">
                <a:srgbClr val="fafdcf"/>
              </a:gs>
              <a:gs pos="100000">
                <a:srgbClr val="898b72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ДОКУМЕНТАЦИЯ КЧС и П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142920" y="0"/>
            <a:ext cx="8858160" cy="670644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еречень, состав, структуру разрабатываемых планов и других документов в органах местного самоуправления, в функциональных подсистемах определяют руководители вышестоящих органов и непосредственные начальники. Документы разрабатываются в ограниченном количестве и доводятся до тех лиц, которым предназначен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вышестоящие органы управления ГО и ЧС обычно представляются решения, планы, директивы, донесения, отчеты и другие докумен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подчиненные органы управления, аварийно-спасательные и другие подразделения обычно высылаются выписки в объеме, необходимом для выполнения зада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органах управления ГО и ЧС должны использоваться формализованные документы, которые применяются при составлении приказов, распоряжений, донесений, сводок, справок и расчетов. Бланки этих документов разрабатываются с учетом их использования средствами связи и АС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кументы комплектуются по рабочим папкам членов КЧС в соответствии с перечнем, утвержденным председателем КЧС.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4"/>
          <p:cNvSpPr/>
          <p:nvPr/>
        </p:nvSpPr>
        <p:spPr>
          <a:xfrm>
            <a:off x="214200" y="2286000"/>
            <a:ext cx="8572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реподаватель Б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«УМЦ  по ГО и ЧС Вологодской област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Афанасьев Владимир Борис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220680" y="196920"/>
            <a:ext cx="8599320" cy="652320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Папка с документами председателя КЧС и П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(Типовой перечень документов, находящихся в папках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редседателя комиссии райо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ональные обяза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членов коми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 мероприятий по ликвидации последствий  возможных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чая карта с нанесенной возможной обстановкой, группировкой сил и средств, привлекаемой для ликвидации последствий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ы (бланки) приказов, распоряжений на проведение мероприятий в случае возникновения ЧС мирн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а приказа на выдвижение территориальных формирований ГО (сил РСЧС) в район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а приказа на проведение АСДН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равочны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79280" y="0"/>
            <a:ext cx="8785440" cy="660420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О-ТЕХНИЧЕСКОЕ ОБЕСПЕЧЕНИЕ КЧС и П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ь КЧС финансируется из районного бюджета, порядок материального и технического обеспечения определяется администрацией рай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комиссии во всех режимах функционирования должна быть обеспече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ещением для размещения членов комиссии с необходимым инвентар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ствами связи (проводными, радио, подвижными) в количестве, обеспечивающем устойчивую работу коми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спортными средствами для работы оперативной группы и коми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асами материальных средств (имущество РХЗ, медицинское, продовольствие, в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м главы администрации назначается должностное лицо, ответственное за подготовку, хранение и своевременное обеспечение имуществом КЧС и П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08080" y="1052640"/>
            <a:ext cx="8785080" cy="536004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висимости от обстановки, масштаба прогнозируемой или возникшей чрезвычайной ситуации решением главы администрации (председателя КЧС и ПБ) района в пределах подведомственной территории может быть установлен один из режимов функционирования РСЧС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ежим повседневной 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ежим повышенной готов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ежим чрезвычайно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43000" y="189000"/>
            <a:ext cx="8713800" cy="703440"/>
          </a:xfrm>
          <a:prstGeom prst="rect">
            <a:avLst/>
          </a:prstGeom>
          <a:gradFill rotWithShape="0">
            <a:gsLst>
              <a:gs pos="0">
                <a:srgbClr val="898b72"/>
              </a:gs>
              <a:gs pos="50000">
                <a:srgbClr val="fafdcf"/>
              </a:gs>
              <a:gs pos="100000">
                <a:srgbClr val="898b72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рганизация работы КЧС и П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90520" y="1125360"/>
            <a:ext cx="8785080" cy="492120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ежим повседневной деятельности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онирование системы в мирное время при нормальной производственно-промышленной, радиационной, химической, биологической, сейсмической и гидрометеорологической обстановке, при отсутствии эпидемий, эпизоотии и эпифитотий - это планомерное осуществление мероприятий по предупреждению чрезвычайных ситуаций и повышению готовности органов управления, сил и средств к ликвидации возможных аварий, катастроф, стихийных и экологических бед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43000" y="144360"/>
            <a:ext cx="8785080" cy="645804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) Работа КЧС и ПБ в режиме повседнев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т период основными мероприятиями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ание органов управления и сил звена РСЧС в готовности к действ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, своевременная корректировка и уточнение планов действий по предупреждению и ликвидации ЧС и других документов планирования, проверка их реальности в ходе учений, тренировок и занят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потенциально опасных объектов и районов возможных стихийных бедствий, прогнозирование ожидаемых потерь и разрушений при возникновении Ч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постоянного наблюдения и контроля за обстановкой на потенциально-опасных объектах и на прилегающих к ним территор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взаимного обмена информацией между вышестоящими, подчиненными и соседними органами 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235080" y="47520"/>
            <a:ext cx="8785080" cy="521460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е подготовки органов управления звена РСЧС, сил, средств и населения к действиям при Ч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планирование и выполнение целевых, научно-технических программ и мероприятий по предупреждению ЧС, обеспечению защиты населения, сокращению возможных потерь и ущерба, повышению устойчивости функционирования промышленных объектов и отраслей экономики при возникновении Ч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, восполнение и поддержание в готовности чрезвычайных резервных фондов финансовых, продовольственных, медицинских и материально-технических ресур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контроля за выполнением мероприятий по предупреждению и ликвидации Ч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евременный доклад вышестоящим органам управления об угрозе или возникновении ЧС и проводимых мероприятиях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"/>
          <p:cNvSpPr/>
          <p:nvPr/>
        </p:nvSpPr>
        <p:spPr>
          <a:xfrm>
            <a:off x="379440" y="5288040"/>
            <a:ext cx="84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дной из важнейших задач, решаемых КЧС ПБ в режиме повседневной деятельности является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планирование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мероприятий по предупреждению и ликвидации Ч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50920" y="1268280"/>
            <a:ext cx="8640720" cy="529020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ланиров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это детальная разработка содержания и порядка выполнения органами управления, силами и средствами мероприятий по действиям при угрозе и возникновении Ч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сновные требования к планированию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еальность, целенаправленность, конкретность, согласованность. Задачи планирования – определение оптимального перечня мероприятий, уточнение последовательности их выполнения, установление сроков решения задач и исполнителе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 планировани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разработке документов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ивлекаю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лены КЧС и ПБ, специалисты ГОЧС, служб, главные специалисты, специалисты проектных и экспертных организаций (при необходимости). На основе прогнозирования и анализа обстановки определяются способы защиты и комплекс мероприятий по надежной защите персонала и территории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50920" y="189000"/>
            <a:ext cx="8642160" cy="825480"/>
          </a:xfrm>
          <a:prstGeom prst="rect">
            <a:avLst/>
          </a:prstGeom>
          <a:gradFill rotWithShape="0">
            <a:gsLst>
              <a:gs pos="0">
                <a:srgbClr val="a1a385"/>
              </a:gs>
              <a:gs pos="50000">
                <a:srgbClr val="fafdcf"/>
              </a:gs>
              <a:gs pos="100000">
                <a:srgbClr val="a1a3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сновы планирования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 предупреждению и ликвидации Ч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358920" y="429264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50920" y="3860640"/>
            <a:ext cx="8713800" cy="265428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тработку планирующих документов можно условно разделить на 3 –эта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онно – подготови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ктическая разработка и оформление док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сование, рассмотрение, доработка и утверждение документов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50920" y="333360"/>
            <a:ext cx="8642160" cy="320292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и планировании учитыва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потенциально опасных участков на объекте, возможные сценарии развития аварийных ситу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енциально опасных объектов  на территории рай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е стихийные бедствия в районе расположения объ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ы и средства объекта, возможные варианты  усиления мероприятий по защите персонала и ликвидации Ч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иентировочный объём, порядок и сроки выполнения мероприятий по предупреждению или снижению ущерба от ЧС, проведению АСДН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 исходные данные, определяемые местными условиями и спецификой деятельности объ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250920" y="260280"/>
            <a:ext cx="8713800" cy="640656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Структура Плана действий по предупреждению и ликвидации ЧС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аздел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истика объекта и краткая оценка возможной обстан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аздел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роприятия при угрозе и возникновении аварий, катастроф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ихийных бед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Прилож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ендарный план основных мероприятий при угрозе и возникновении Ч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едседателя комиссии по ликвидации Ч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чет сил и средств, привлекаемых для ликвидации Ч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управления, связи и опове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 эвакуации и укрытия персонала при угрозе радиоактивного загрязнения или химического зара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кларация промышленной безопасности (в необходимых случая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 ликвидации аварийных ситуациях (в необходимых случая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58920" y="1994040"/>
            <a:ext cx="8605800" cy="397044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оприятия по защите населения вклю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готовку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рганов управления и си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учение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населения действиям при угрозе и возникновении Ч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здание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запасов материально-технически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"/>
          <p:cNvSpPr/>
          <p:nvPr/>
        </p:nvSpPr>
        <p:spPr>
          <a:xfrm>
            <a:off x="468360" y="537372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1" descr=""/>
          <p:cNvPicPr/>
          <p:nvPr/>
        </p:nvPicPr>
        <p:blipFill>
          <a:blip r:embed="rId1"/>
          <a:stretch/>
        </p:blipFill>
        <p:spPr>
          <a:xfrm>
            <a:off x="334800" y="73080"/>
            <a:ext cx="86569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714680"/>
            <a:ext cx="9144000" cy="30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рганизация работы комиссии по предупреждению  и ликвидации чрезвычайных ситуаций и обеспечению пожарной безопасности (КЧС и ПБ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57120" y="285840"/>
            <a:ext cx="8605800" cy="623844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готовка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ов управления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ключае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уществлении комплекса мероприятий, направленных на защиту насел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 надежном управлении силами в ходе ликвидации последствий аварий, катастроф и стихийных бед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отовность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ов управления и сил к действи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ЧС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еспечива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комплектованием КЧС, их оперативных групп и сил личным состав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снащением органов управления и сил техникой и имуществ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одержанием техники и имущества в готовности к примен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овершенствованием организационно-штатной струк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ым контролем за состоянием гото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учением личного состава органов управления и си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"/>
          <p:cNvSpPr/>
          <p:nvPr/>
        </p:nvSpPr>
        <p:spPr>
          <a:xfrm>
            <a:off x="468360" y="537372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79280" y="0"/>
            <a:ext cx="8605800" cy="675072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результат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учен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еление долж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гналы оповещ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стики поражающих факторов при различных ЧС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ы и средства защи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а укрыт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ок эвакуации (временного отселения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поведения в зоне (очаге) поражения, затоп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ме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овать по сигналам оповещ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оваться СИЗ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готовлять простейшие СИЗОД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евременно занимать защитные сооруж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хранять продукты питания и вод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ывать само- и взаимопомощь при поражен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щать семью, окружающих и обеспечивать их безопасность, пресекать случаи грабежей, мародерства и другие нарушения зако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468360" y="537372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12680" y="189000"/>
            <a:ext cx="8869320" cy="645804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здани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материально-технической баз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аг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и совершенствование систем оповещения, связи и управления (включая локальн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требуемого запаса средств индивидуальной и медицинской защиты.  (Для обеспечения производства работ по дезактивации, дегазации и дезинфекции территории, зданий и сооружении заблаговременно создаются также запасы дезактивирующих, дегазирующих и дезинфицирующих вещест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копление фонда защитных сооружений в соответствии с тре-бованиями норм инженерно-технических мероприятий ГО. (Проводится инвентаризация подвальных и других заглубленных помещений, которые могут быть приспособлены для укрытия. Осуществляется контроль за готовностью имеющихся убежищ и укрытий к приему укрываемых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ретение необходимой техники и оборудования для  формирований ГО (обеспечение техники горючим и смазочными материала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468360" y="537372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08080" y="692280"/>
            <a:ext cx="8785080" cy="536004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ежим повышенной готовности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онирование системы при ухудшении производственно-промышленной, радиационной, химической, биологической, сейсмической к гидрометеорологической обстановки, при. получении прогноза о возможности возникновения чрезвычайной ситуации. В этом режиме КЧС ПБ обязана оценить возникшее угрозы, вероятные сценарии развития обстановки, принять меры к усилению дежурно-диспетчерской службы, контроля и наблюдения по приведению в готовность сил и средств и уточнению планов и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208080" y="311040"/>
            <a:ext cx="8785080" cy="616536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) Работа комиссии по ЧС и ПБ при угрозе возникновения  Ч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роприятиям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ежиме повышенной готов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едение в готовность КЧС и органов управления ГО и ЧС, систем связи и оповещения, усиление дежурно-диспетчерской служб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ие усиленного режима работы с круглосуточным дежурством руководящего состава комиссий по ЧС и органов управления ГО и ЧС, дежурных сме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евременное представление докладов в вышестоящие органы управления, информирование подчиненных и соседей о сложившейся обстановке и возможном ее развит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очнение принятых решений и ранее разработанных пла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ение наблюдения и контроля за состоянием окружающей среды, обстановкой на потенциально опасных объектах и прилегающих к ним территор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нозирование возможной ЧС, ее последствий и масштабов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500040" y="500040"/>
            <a:ext cx="8280360" cy="594612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ятие мер по защите населения, окружающей природной среды и повышению устойчивого функционирования объектов эконом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едение в готовность сил и средств, предназначенных для ликвидации угрозы возникновения ЧС, уточнение им задач и при необходимости выдвижение в район возможных бедст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ка готовности служб жизнеобеспечения населения к действиям в соответствии с прогнозируемой обстанов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и контроль за предварительными мерами по защите населения, снабжению средствами индивидуальной защиты и повышению устойчивости функционирования служб и объектов жизнеобеспе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43000" y="260280"/>
            <a:ext cx="8783640" cy="667764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ы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 и Ч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ив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ожившую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становку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гнозируют ее возможное развит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готовят данные для принятия реш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едателем КЧС и ПБ на проведение комплекса организационных, инженерно-технических и других мероприятий по предупреждению ЧС или уменьшению ее воздействия на население, объекты экономики и окружающую природную среду. На основе анализа обстановки и принятого председателем КЧС решения вносятся необходимые уточнения в планы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оме того, органы у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очняют задачи подразделениям наблюдения и лабораторного контроля, общей и специальной развед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яют готовность подчиненных органов управления, оперативных групп, сил постоянной готовности, предназначенных для действий в экстремальных условиях, отдают необходимые распоря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79280" y="260280"/>
            <a:ext cx="8785440" cy="631188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обходимости высылают оперативную группу (ОГ) в район ожидаемой ЧС для организации управления и проведения работ по предотвращению ЧС или уменьшению возможного ущерб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очняют вопросы взаимодействия, состав выделяемых сил, их укомплектованность и возможности, пункты дислокации, объекты, районы предстоящих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товят предложения о создании группировки сил РСЧС в районе возможной ЧС, организации управления и мерах обеспе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атывают (уточняют) план действия сил в районе опасности, определяют маршруты их выдвижения, районы сосредоточения, сроки прибытия и гото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уют слаживание (при наличии времени) привлекаемых органов управления и сил к решению предстоящих задач путем проведения с ними специальных занятий и трениров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ладывают старшим органам управления об обстановке, принятом решении и проводимых мероприят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50920" y="260280"/>
            <a:ext cx="8713800" cy="694908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сновой управления является решение председателя коми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боре решения учитываются ресурсные возможности, т.е. необходимые силы, средства, материальные и финансовые ресурсы. Решение председателя оформляется приказом (распоряжением)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ым условием успешного руководства мероприятиями является организация постоянного взаимодействия между вышестоящими, подчиненными и другими органами управления, а также силами, привлекаемыми к проведению работ по ликвидации ЧС. Органы управления ГОЧС взаимодействуют с учреждениями сети наблюдения лабораторного контроля (далее - СНЛК), учреждениями надзора и контроля, органами МВД , военным командованием, центром по гидро – метеорологии и мониторингом окружающи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том ГУ МЧС осуществляет непосредственное руководство учреждениями СНЛК на территории.  Для взаимодействия с государственными надзорными органами создаются координационные советы по промышленной и экологической безопас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14200" y="1214280"/>
            <a:ext cx="8785440" cy="353160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ежим чрезвычайной ситуаци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онирование системы при возникновении и во время ликвидации ЧС. Основная деятельность КЧС ПБ в этом режиме - непосредственное руководство ликвидацией ЧС и защита персонала от возникающих (ожидаемых) опас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357120" y="142920"/>
            <a:ext cx="8497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14200" y="1000080"/>
            <a:ext cx="8786880" cy="548712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исполнение Федерального закона "О защите населения и территорий от чрезвычайных ситуаций природного и техногенного характера"(№б8-ФЗ от 21 декабря 1994 г.) в стране функционирует Единая государственная система предупреждения и ликвидации чрезвычайных ситуаций (РСЧС), положение о которой утверждено Постановлением Правительства Российской федерации от 30.12.03 г. №794. В соответствии с ним эт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бъединяет органы управления, силы и средст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х органов исполнительной власти, органов исполнительной власти субъектов Российской федерации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в местного самоуправлен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бъектов для действий по предупреждению и ликвидации чрезвычайных ситуаций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остои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альны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ы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систем, а такж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пять уровней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, межрегиональный, региональный (субъектов Российской Федерации), муниципальный, и объектовый  (предприятия, учреждения и организаци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08080" y="260280"/>
            <a:ext cx="8785080" cy="645804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) Работа комиссии по ЧС и ПБ при возникновении чрезвычай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возникновением ЧС глава администрации (председатель КЧС и ПБ) вводит режим  ЧС и контролирует выполнение мероприятий, предусмотренных «Планом действий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ми мероприятиями, проводимыми  КЧС и ПБ,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е мероприятий режима повышенной готовности, если они не проводились ране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 органов управления ГО и ЧС, расположенных в районе бедствия, на круглосуточный режим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защиты нас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лад вышестоящим органам управления об обстановке и проводимых мероприятиях, информирование подчиненных и сосед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вижение оперативных групп в район ЧС для непосредственного руководства проведением аварийно-спасательных и других неотложных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08080" y="260280"/>
            <a:ext cx="8785080" cy="631188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вижение органов управления, сил РСЧС и других привлекаемых сил в район бед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границ зоны Ч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и руководство АСДН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е мероприятий по устойчивому функционированию отраслей и объектов экономики, первоочередному жизнеобеспечению пострадавшего нас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непрерывного контроля за состоянием окружающей природной среды в районах ЧС, за обстановкой на аварийных объектах и прилегающих к ним территор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ка масштабов ущер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20680" y="260280"/>
            <a:ext cx="8785080" cy="609228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едседатель КЧС и П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угрозе или возникновении ЧС свою работу начинает, как правило, в пункте постоянной дислокации, где на основе полученных данных об обстановке принимает предварительное решение и отдает распоря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возникновением ЧС глава администрации (председатель КЧС и ПБ) вводит режим  ЧС и контролирует выполнение мероприятий, предусмотренных «Планом действий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следующем, с прибытием в район ЧС, уточняет обстановку, принимает окончательное решение и руководит проведением аварийно-спасательных и других неотложны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рабочим органом в районе ЧС является оперативная груп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14200" y="285840"/>
            <a:ext cx="8785440" cy="631404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едседатель КЧС и ПБ долж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тко представля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 и сложность 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м работ, место и роль подчиненных органов управления, сил РСЧС при решении задач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дальнейшего осложнения ситу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изводи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 времени, определяет метод и режим работы КЧС и других органов упра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а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акие, кому отдать предварительные распоряжения и какие провести экстренные меры по защите населения и ликвидации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навлива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ремя готовности сил к предстоящим действ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 председатель КЧС и ПБ с привлечением необходимых ему должностных лиц приступает к оценке обстановки, определению замысла и принятию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14200" y="500040"/>
            <a:ext cx="8785440" cy="588744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 ходе провед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арийно-спасательных и других неотложных рабо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АСДНР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ЧС и ПБ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местно с органами управления ГО и ЧС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яза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ивать устойчивую связь с вышестоящими, подчиненными органами управления, в том числе с оперативными группами, развернутыми в районе ЧС и  сосед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о осуществлять сбор, анализ и оценку обстановки, своевременно докладывать начальникам расчеты, выводы и предло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ть оценку объема и характера предстоящих аварийно-спасательных и других неотложных работ, вести учет их выпол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осить уточнения в разработанные планы и своевременно доводить задачи до подчиненных, взаимодействующих органов управления, контролировать правильность их выпол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14200" y="214200"/>
            <a:ext cx="8785440" cy="649728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вать благоприятные условия для результативной деятельности председателя КЧС и ПБ по организации и руководству работами, готовить необходимые данные и расчеты для уточнения им решения или принятия ново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ть поддержание непрерывного взаимодействия между органами управления, силами РСЧС, а также с взаимодействующими и соседними органами 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ти учет потерь населения, личного состава и техники, принимать меры по созданию (восстановлению) резерва сил и сред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евременно докладывать в вышестоящий орган управления (КЧС и ПБ) о принятых решениях, поставленных подчиненным задачах и их выполн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о информировать об обстановке, принимаемых мерах соседние органы 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мать меры для повышения устойчивости и непрерывности у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42920" y="142920"/>
            <a:ext cx="8785080" cy="652356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Жизнеобеспечение пострадавшего и эвакуированного населения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ется органами исполнительной власти с привлечением КЧС и ПБ объ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этой целью проводятс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ющие основ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ероприят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ременное размещение населения, оставшегося без кров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беспечение людей продуктами питания, водой и предметами первой необходимос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оздание условий для нормальной деятельности предприятий коммунально-энергетического хозяйства, транспорта и учреждений здравоохранен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рганизация учета и распределения материальной помощ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ведение необходимых санитарно-гигиенических и противоэпидемических мероприятий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иквидация последствий шоковых состояний, проведение работы среди населения по снижению последствий психического воздействия ЧС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селение эвакуируемого населения в безопасных районах, обеспечение продовольствием, предметами первой необходимости, медицинской помощ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соответствии с законодательными актами  РФ решение вопросов организации и осуществления мероприятий по первоочередному жизнеобеспечению населения в ЧС возлагается на функциональную подсистему РСЧС — "Защита и жизнеобеспечение населения при ЧС"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42920" y="142920"/>
            <a:ext cx="8785080" cy="649728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и созда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территории района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звена функциональной подсистемы РСЧ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федеральные структурные подразделения)  по защите и жизнеобеспечению населения при ЧС,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омиссия по ЧС и ПБ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йона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уководствуе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ответствующим Положением (МЧС, 1994 г.) и "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ормативно-методическими документам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жизнеобеспечению населения в условиях ЧС" (МЧС, 1995 г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омиссия по ЧС и П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йона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существляет руководство районным звеном функциональной подсистемы РСЧ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ая должна состоять из органов управления, сил и средств министерств и ведомств Российской Федерации, непосредственно решающих задачи по защите и жизнеобеспечению населения в ЧС мирного и военного времени на территории рай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йонное функциональное звено должно решать следующие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женерной защиты населения и территорий (инженерно-технические мероприятия ГО)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диационной и химической защиты нас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ко-биологической защиты нас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еобеспечения на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2920" y="142920"/>
            <a:ext cx="8785080" cy="651708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сновными задачами функционального звена в области жизнеобеспечения населения является участ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разработке местных программ заблаговременной подготовки территорий к жизнеобеспечению населения (строительство, реконструкция, техническое перевооружение предприятий, повышение их физической стойкости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составлении планов развития служб жизнеобеспечения и обслуживания населения в районах эвакуац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создании местных запасов продовольственных, материально-технических ресурсов жизнеобеспечения и контроле за их использование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разработке планов мероприятий по защите продовольствия, пищевого сырья, водоисточников и систем хозяйственно-питьевого водоснабжен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пополнении материально-технических ресурсов для восстановления объектов жизнеобеспечен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создании запасов реагентов, реактивов, консервантов для очистки и консервации питьевой воды и технических средств для очистки воды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42920" y="142920"/>
            <a:ext cx="8785080" cy="436284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формировании подразделений по снабжению пострадавшего населения водой, продуктами питания, товарами первой необходимости, коммунально-бытовыми услугами и жиль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ставлении соглашений (договоров) между органами исполнительной власти, коммерческими структурами торговли, общественного питания по организации снабжения пострадавшего населения в зонах бедствия и районах их эвакуации; осуществлении контроля за выполнением догово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работке, согласовании и утверждении норм и нормативов жизнеобеспечения населения, осуществлении контроля за их ис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284040" y="4570560"/>
            <a:ext cx="864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 возникшей чрезвычайной ситуации, ходе ее ликвидации и окончательных результатах </a:t>
            </a:r>
            <a:r>
              <a:rPr b="1" lang="ru-RU" sz="2200" spc="-1" strike="noStrike" u="sng">
                <a:solidFill>
                  <a:srgbClr val="ffff00"/>
                </a:solidFill>
                <a:uFillTx/>
                <a:latin typeface="Arial"/>
              </a:rPr>
              <a:t>в установленном порядке представляются донесени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в вышестоящую комиссию по ЧС и орган управления ГО и Ч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9"/>
          <p:cNvSpPr/>
          <p:nvPr/>
        </p:nvSpPr>
        <p:spPr>
          <a:xfrm>
            <a:off x="1995840" y="6145200"/>
            <a:ext cx="507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яется приказом МЧС России от 25.07.96 №42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 О введение в действие табеля срочных донесени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14200" y="142920"/>
            <a:ext cx="8678880" cy="649260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уровень РСЧС должен име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ющие орган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стоянно действующие органы управления, органы повседневного управления, силы и средства, резервы финансовых и материальных ресурсов, системы связи и оповещ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униципальном уровн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координации деятельности органов управления, сил и средств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ютс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иссии по предупреждению и ликвидации чрезвычайных ситуаций и обеспечению пожарной безопасност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ЧС и  ПБ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им органо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ЧС и ПБ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оянно действующий орган управления по делам ГО и ЧС (отдел, сектор), 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и органа повседневного управления выполняе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ая дежурно-диспетчерская служба (ЕДДС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занятие проводится с председателями и членами КЧС с целью оказания помощи в подготовке и организации работы КЧС П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емые учебные вопросы и их содержание - по созданию, составу, подготовке и организации работы КЧС ПБ, носят рекомендательный характер и должны применяться с учетом специфики деятельности муниципального образования и местных услов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49"/>
          <p:cNvSpPr/>
          <p:nvPr/>
        </p:nvSpPr>
        <p:spPr>
          <a:xfrm>
            <a:off x="555840" y="2987640"/>
            <a:ext cx="78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РГАНИЗАЦИЯ РАБОТЫ КЧС ПБ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663480" y="6589800"/>
            <a:ext cx="671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0" y="0"/>
            <a:ext cx="9143280" cy="6841080"/>
            <a:chOff x="0" y="0"/>
            <a:chExt cx="9143280" cy="6841080"/>
          </a:xfrm>
        </p:grpSpPr>
        <p:sp>
          <p:nvSpPr>
            <p:cNvPr id="112" name="Text Box 4"/>
            <p:cNvSpPr/>
            <p:nvPr/>
          </p:nvSpPr>
          <p:spPr>
            <a:xfrm>
              <a:off x="1211040" y="0"/>
              <a:ext cx="646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став объектовой КЧС и П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5"/>
            <p:cNvSpPr/>
            <p:nvPr/>
          </p:nvSpPr>
          <p:spPr>
            <a:xfrm>
              <a:off x="2534400" y="370080"/>
              <a:ext cx="3965040" cy="8132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5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3300"/>
                  </a:solidFill>
                  <a:latin typeface="Arial"/>
                </a:rPr>
                <a:t>Председатель – руководитель объекта</a:t>
              </a: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 заместитель руководителя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30120" y="1627200"/>
              <a:ext cx="1981800" cy="664920"/>
            </a:xfrm>
            <a:prstGeom prst="rect">
              <a:avLst/>
            </a:prstGeom>
            <a:solidFill>
              <a:srgbClr val="fafee4"/>
            </a:solidFill>
            <a:ln w="9360">
              <a:solidFill>
                <a:srgbClr val="95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Главный инжен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2976480" y="1257120"/>
              <a:ext cx="30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З  а  м  е  с  т  и  т  е  л 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8"/>
            <p:cNvSpPr/>
            <p:nvPr/>
          </p:nvSpPr>
          <p:spPr>
            <a:xfrm>
              <a:off x="2827080" y="1627200"/>
              <a:ext cx="3377160" cy="664920"/>
            </a:xfrm>
            <a:prstGeom prst="rect">
              <a:avLst/>
            </a:prstGeom>
            <a:solidFill>
              <a:srgbClr val="fafee4"/>
            </a:solidFill>
            <a:ln w="9360">
              <a:solidFill>
                <a:srgbClr val="95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Заместитель по производств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9"/>
            <p:cNvSpPr/>
            <p:nvPr/>
          </p:nvSpPr>
          <p:spPr>
            <a:xfrm>
              <a:off x="6574320" y="1627200"/>
              <a:ext cx="2276280" cy="664920"/>
            </a:xfrm>
            <a:prstGeom prst="rect">
              <a:avLst/>
            </a:prstGeom>
            <a:solidFill>
              <a:srgbClr val="fafee4"/>
            </a:solidFill>
            <a:ln w="9360">
              <a:solidFill>
                <a:srgbClr val="95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Нач.отдела (сектора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по делам ГОЧ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0"/>
            <p:cNvSpPr/>
            <p:nvPr/>
          </p:nvSpPr>
          <p:spPr>
            <a:xfrm>
              <a:off x="3576240" y="2290680"/>
              <a:ext cx="341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Ч  л  е  н  ы      к  о  м  и  с  с  и  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405000" y="6209640"/>
              <a:ext cx="8667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бочим органом комиссии является (отдел; сектор) по  делам ГОЧС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Численность комиссии и ее персональный состав определяет руководитель объекта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0" y="4215240"/>
              <a:ext cx="1981800" cy="1110240"/>
            </a:xfrm>
            <a:prstGeom prst="rect">
              <a:avLst/>
            </a:prstGeom>
            <a:solidFill>
              <a:srgbClr val="fafee4"/>
            </a:solidFill>
            <a:ln w="9360">
              <a:solidFill>
                <a:srgbClr val="95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Зам. директора по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жиму –  нач. служб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храны общ. поряд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0" y="2736000"/>
              <a:ext cx="1981800" cy="664920"/>
            </a:xfrm>
            <a:prstGeom prst="rect">
              <a:avLst/>
            </a:prstGeom>
            <a:solidFill>
              <a:srgbClr val="fafee4"/>
            </a:solidFill>
            <a:ln w="9360">
              <a:solidFill>
                <a:srgbClr val="95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За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лавного инжене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0" y="5620680"/>
              <a:ext cx="1981800" cy="585360"/>
            </a:xfrm>
            <a:prstGeom prst="rect">
              <a:avLst/>
            </a:prstGeom>
            <a:solidFill>
              <a:srgbClr val="fafee4"/>
            </a:solidFill>
            <a:ln w="9360">
              <a:solidFill>
                <a:srgbClr val="95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Юрисконсуль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0" y="3476160"/>
              <a:ext cx="1981800" cy="664920"/>
            </a:xfrm>
            <a:prstGeom prst="rect">
              <a:avLst/>
            </a:prstGeom>
            <a:solidFill>
              <a:srgbClr val="fafee4"/>
            </a:solidFill>
            <a:ln w="9360">
              <a:solidFill>
                <a:srgbClr val="95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ч. мед. пункта 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ч. мед. служб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131200" y="2736000"/>
              <a:ext cx="2349000" cy="888840"/>
            </a:xfrm>
            <a:prstGeom prst="rect">
              <a:avLst/>
            </a:prstGeom>
            <a:solidFill>
              <a:srgbClr val="fafee4"/>
            </a:solidFill>
            <a:ln w="9360">
              <a:solidFill>
                <a:srgbClr val="95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лавный энергетик 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ч. служб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нергоснабжения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ветомаскиров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6867000" y="2736000"/>
              <a:ext cx="2276280" cy="1110240"/>
            </a:xfrm>
            <a:prstGeom prst="rect">
              <a:avLst/>
            </a:prstGeom>
            <a:solidFill>
              <a:srgbClr val="fafee4"/>
            </a:solidFill>
            <a:ln w="9360">
              <a:solidFill>
                <a:srgbClr val="95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спектор п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отивопожарн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езопасности 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ч. противопожар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лужб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6867000" y="4068360"/>
              <a:ext cx="2276280" cy="740160"/>
            </a:xfrm>
            <a:prstGeom prst="rect">
              <a:avLst/>
            </a:prstGeom>
            <a:solidFill>
              <a:srgbClr val="fafee4"/>
            </a:solidFill>
            <a:ln w="9360">
              <a:solidFill>
                <a:srgbClr val="95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ч. узла (АТС)  - нач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лужбы связи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повещ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6867000" y="5028840"/>
              <a:ext cx="2276280" cy="813600"/>
            </a:xfrm>
            <a:prstGeom prst="rect">
              <a:avLst/>
            </a:prstGeom>
            <a:solidFill>
              <a:srgbClr val="fafee4"/>
            </a:solidFill>
            <a:ln w="9360">
              <a:solidFill>
                <a:srgbClr val="95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Зам. директора п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драм –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ч. отдела кадр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4627800" y="4437000"/>
              <a:ext cx="2056680" cy="591480"/>
            </a:xfrm>
            <a:prstGeom prst="rect">
              <a:avLst/>
            </a:prstGeom>
            <a:solidFill>
              <a:srgbClr val="fafee4"/>
            </a:solidFill>
            <a:ln w="9360">
              <a:solidFill>
                <a:srgbClr val="95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лавный бухгал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4627800" y="3623040"/>
              <a:ext cx="2056680" cy="667080"/>
            </a:xfrm>
            <a:prstGeom prst="rect">
              <a:avLst/>
            </a:prstGeom>
            <a:solidFill>
              <a:srgbClr val="fafee4"/>
            </a:solidFill>
            <a:ln w="9360">
              <a:solidFill>
                <a:srgbClr val="95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ч. отдела (ОКС) 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ч. службы убежи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 укры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2131200" y="3809160"/>
              <a:ext cx="2349000" cy="887040"/>
            </a:xfrm>
            <a:prstGeom prst="rect">
              <a:avLst/>
            </a:prstGeom>
            <a:solidFill>
              <a:srgbClr val="fafee4"/>
            </a:solidFill>
            <a:ln w="9360">
              <a:solidFill>
                <a:srgbClr val="95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ч. транспортн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тдела –  нач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ранспортн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лужб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4627800" y="2736000"/>
              <a:ext cx="2056680" cy="740160"/>
            </a:xfrm>
            <a:prstGeom prst="rect">
              <a:avLst/>
            </a:prstGeom>
            <a:solidFill>
              <a:srgbClr val="fafee4"/>
            </a:solidFill>
            <a:ln w="9360">
              <a:solidFill>
                <a:srgbClr val="95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лавный механик 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ч.  аварийно 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ехнической служб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2131200" y="5695920"/>
              <a:ext cx="2349000" cy="518400"/>
            </a:xfrm>
            <a:prstGeom prst="rect">
              <a:avLst/>
            </a:prstGeom>
            <a:solidFill>
              <a:srgbClr val="fafee4"/>
            </a:solidFill>
            <a:ln w="9360">
              <a:solidFill>
                <a:srgbClr val="95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женер п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ехнике безопас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5"/>
            <p:cNvSpPr/>
            <p:nvPr/>
          </p:nvSpPr>
          <p:spPr>
            <a:xfrm>
              <a:off x="2131200" y="4880520"/>
              <a:ext cx="2349000" cy="591840"/>
            </a:xfrm>
            <a:prstGeom prst="rect">
              <a:avLst/>
            </a:prstGeom>
            <a:solidFill>
              <a:srgbClr val="fafee4"/>
            </a:solidFill>
            <a:ln w="9360">
              <a:solidFill>
                <a:srgbClr val="95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Зам. директора п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ТО – нач. службы МТ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6"/>
            <p:cNvSpPr/>
            <p:nvPr/>
          </p:nvSpPr>
          <p:spPr>
            <a:xfrm>
              <a:off x="8494560" y="240840"/>
              <a:ext cx="18468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50920" y="4005360"/>
            <a:ext cx="4608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ик противопожарной служ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5327640" y="4005360"/>
            <a:ext cx="35654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ено св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5867280" y="2133720"/>
            <a:ext cx="3097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ик отдела ох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а и техники 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50920" y="2205000"/>
            <a:ext cx="2881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. главного инжен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лавный инжен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419640" y="2133720"/>
            <a:ext cx="2160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. отд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ектора) по дел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Ч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042920" y="260280"/>
            <a:ext cx="6842160" cy="1143000"/>
          </a:xfrm>
          <a:prstGeom prst="rect">
            <a:avLst/>
          </a:prstGeom>
          <a:solidFill>
            <a:srgbClr val="6de3ff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остав оперативной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427640" y="14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1258920" y="184464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25892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7885080" y="184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3276720" y="184464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5724360" y="184464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7894440" y="42372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041d3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324000" y="5445000"/>
            <a:ext cx="856908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 необходимости из состава комиссии формируются оперативные группы с привлечением необходимых специалистов для выявления причин ухудшения  обстановки и выработки предложений по ее нормализации.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79280" y="1484280"/>
            <a:ext cx="8713800" cy="497268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ство разработкой и осуществлением мероприятий по предупреждению ЧС, повышению надежности работы ПОО, обеспечению устойчивости функционирования объекта при возникновении Ч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работ по созданию и поддержанию в исправном состоянии систем контроля и оповещ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готовности ОУ, сил и средств к действиям в ЧС, руководство их ликвидацией и эвакуацией персонала объ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ство созданием и использованием резервов финансовых и материальных ресурсов для ликвидации Ч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подготовки персонала  объекта  к действиям в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95280" y="476280"/>
            <a:ext cx="8497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сновные задачи КЧС и ПБ объ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8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50920" y="115920"/>
            <a:ext cx="856908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рганизация работы КЧС и ПБ объ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79280" y="692280"/>
            <a:ext cx="8712360" cy="607140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А. При повседневной деятельности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седневная деятельность комиссии организуется на основе годовых и месячных планов работы. Заседания проводится не реже 1 раза в квартал, при  возникновении ЧС – незамедли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седание комиссии является правомочным при наличии на заседании более половины её членов. Решения принимаются открытым голосованием, простым большинством голосов. Решения оформляются протоколами, которые подписываются председательствующем и секретарём засе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едатель комиссии либо лицо, исполняющее его обязанности, в пределах предоставленных полномочий имеет право давать указания и поручения членам коми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обязанностей в комиссии осуществляется председателем и оформляется в виде функциональных обяза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овещение членов комиссии при угрозе возникновения  или возникновении ЧС осуществляется дежурно - диспетчерской службой объектов  в соответствии со схемой оповещения и с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50920" y="404640"/>
            <a:ext cx="8642160" cy="274788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Б. При угрозе возникновения и возникновении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иссия осуществляет руководство всем комплексом мероприятий по защите работников и ликвидацией последствий ЧС. С момента возникновения ЧС переходит на непрерывный режим раб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работы – служебный кабинет начальника ГО объекта, председателя КЧС и ПБ или пункт упра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иссия формирует из своего состава оперативную группу для решения задач на месте Ч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50920" y="3357720"/>
            <a:ext cx="8642160" cy="329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В. При ликвидации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квидацию ЧС организует КЧС и ПБ объекта. Для проведения АСДНР привлекаются силы и средства объекта, которые выделяются в соответствии с планом действий по предупреждению и ликвидации ЧС природного и техногенного характ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иссия  организует материально – техническое и финансовое обеспечение работ. Если масштабы  ЧС таковы, что  имеющимися силами и средствами локализовать или ликвидировать ЧС невозможно, то она обращается за помощью в вышестоящую комисс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250920" y="549360"/>
            <a:ext cx="8642160" cy="576864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етодика и последовательность работы председателя и членов комиссии в каждом конкретном случае будет определять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ом аварии или видом стихийного бед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штабом последствий Ч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лением источника аварии (стихийного бедствия) от объекта (территори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еоусловиями на момент возникновения Ч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льефом мест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чием средств индивидуальной и коллективной защи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79280" y="765000"/>
          <a:ext cx="8856720" cy="5761080"/>
        </p:xfrm>
        <a:graphic>
          <a:graphicData uri="http://schemas.openxmlformats.org/drawingml/2006/table">
            <a:tbl>
              <a:tblPr/>
              <a:tblGrid>
                <a:gridCol w="365400"/>
                <a:gridCol w="2855880"/>
                <a:gridCol w="5635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тап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Содержание эта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d3ff"/>
                    </a:solidFill>
                  </a:tcPr>
                </a:tc>
              </a:tr>
              <a:tr h="193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 экстренных ме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овещение персонала об опас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овещение и сбор комисс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нозирование обстанов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 экстренных мер по защите персонала, оказанию помощи пострадавшим и локализации авар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разведки зоны Ч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очнение задач силам постоянной готов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едение в готовность сил РСЧ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3f4"/>
                    </a:solidFill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ивное планирование (организация АСДН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обстановки и выводы из неё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 решения на ликвидацию ЧС  (краткие выводы из обстановки, объем и характер предстоящих задач, задачи подчиненным, порядок всестороннего обеспечения и организация взаимодействия, организация управления)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3f4"/>
                    </a:solidFill>
                  </a:tcPr>
                </a:tc>
              </a:tr>
              <a:tr h="22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квидация ЧС (проведение АСДН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ертывание работы, установление связи с ОГ в зоне ЧС и вышестоящим орган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р начальников  подчиненных и взаимодействующих ОУ в зоне ЧС, заслушивание докладов и предложений по ликвидации Ч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очнение обстановки, состава сил и плана действ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очнение реш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едение задач до подчиненных и взаимодействующих  О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обмена информацией об обстановке и принимаемых мер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 выполнения АСДНР и потерь среди персонал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4f3f4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21"/>
          <p:cNvSpPr/>
          <p:nvPr/>
        </p:nvSpPr>
        <p:spPr>
          <a:xfrm>
            <a:off x="179280" y="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рганизация работы КЧС и ПБ при возникновении ЧС природного и техногенного харак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79280" y="0"/>
            <a:ext cx="8964720" cy="18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Сущность и организация взаимодействия между органами управления и силами, привлекаемыми для ликвидации Ч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ность взаимодействия заключается в целенаправленной, управляемой деятельности, согласованной по целям, задачам, месту, времени и способам действий подчиненных и взаимодействующих ОУ и сил РСЧС на всех этапах предупреждения и ликвидации Ч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79280" y="1773360"/>
            <a:ext cx="8964720" cy="480132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Организация взаимодействия включ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ткую постановку задач исполнителям и разграничение их фун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гласование порядка совместного выполнения задач по способам выполнения,    месту и   време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ановление порядка обмена данными об обстановк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ю контроля за выполнением установленного порядка взаимодейств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Взаимодействующие ОУ  долж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нать обстановку в районе ЧС и постоянно уточнять данные о н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ильно понимать замысел начальника и задачи совместно проводимых мероприятий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держивать между собой непрерывную связь и осуществлять обмен информаци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овывать совместную подготовку и планирование проводимых мероприят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гласовывать вопросы управления, разведки и всех видов обеспеч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79280" y="115920"/>
            <a:ext cx="8640720" cy="653508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уменьшения риска возникновения ЧС техногенного характера на объектах повышенной опасности, обеспечивающих жизнедеятельность населения, устанавливаются дополнительные требования для этих орган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ть этих требований  сводится к лицензированию их деятельности, обязательной сертификации технических устройств, экспертизе и декларированию безопасности, страхованию ответственности за причинение вреда при эксплуатации объектов повышенной 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У ГОЧС ведут учет объектов повышенной опасности и объектов жизнеобеспечения на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Ввод их в эксплуатацию производится при наличии следующих утвержденных документо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ения о соответствии реализованных при строительстве мероприятий по предупреждению ЧС, проектной докумен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ения о готовности объектовых сил и средств к ликвидации Ч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а действий по предупреждению и ликвидации ЧС на объекте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14200" y="2428920"/>
            <a:ext cx="8642520" cy="338436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, состав и задачи КЧС и ПБ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кументация КЧС и П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рганизация работы КЧС и П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50920" y="404640"/>
            <a:ext cx="8642160" cy="703440"/>
          </a:xfrm>
          <a:prstGeom prst="rect">
            <a:avLst/>
          </a:prstGeom>
          <a:gradFill rotWithShape="0">
            <a:gsLst>
              <a:gs pos="0">
                <a:srgbClr val="898b72"/>
              </a:gs>
              <a:gs pos="50000">
                <a:srgbClr val="fafdcf"/>
              </a:gs>
              <a:gs pos="100000">
                <a:srgbClr val="898b72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Учебные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50920" y="476280"/>
            <a:ext cx="8642160" cy="623340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бязательными показателями готовности  объекта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ащенность средствами предупреждения и локализации Ч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объектовыми силами ликвидировать локальную Ч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щищенность от опасных    природных 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чие системы оповещения, резервов материальных и финансов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хование ответственности за причинение вр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250920" y="366840"/>
            <a:ext cx="8642160" cy="626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едседатели КЧС и П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тенциально опасных объектов и объектов жизнеобеспечения в своей работе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бязаны руководствоваться  Требования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 предупреждению ЧС на ПОО и объектах жизнеобеспечения, утвержденных приказом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МЧС России от 28.02.03 №105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оторые предусматривают осуществление комплекса мероприятий по уменьшению риска ЧС техногенного харак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Для установления степени риска ЧС опреде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четные  сценарии возможных  аварий, приводящих к ЧС (условия возникновения, поражающие факторы, продолжительность воздействия и масштаб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ницы зон, в пределах которых может осуществляться поражающее воздействие  источника Ч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ение производственного персонала и населения на терр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79280" y="0"/>
            <a:ext cx="8785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орядок сбора и обмена информацией о ЧС, предоставление донесений о возникновении, развитии и ликвидации Ч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9280" y="907920"/>
          <a:ext cx="8964720" cy="5867640"/>
        </p:xfrm>
        <a:graphic>
          <a:graphicData uri="http://schemas.openxmlformats.org/drawingml/2006/table">
            <a:tbl>
              <a:tblPr/>
              <a:tblGrid>
                <a:gridCol w="1917720"/>
                <a:gridCol w="2065320"/>
                <a:gridCol w="1623960"/>
                <a:gridCol w="1845000"/>
                <a:gridCol w="1512720"/>
              </a:tblGrid>
              <a:tr h="57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донес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представля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у представля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и пред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e3ff"/>
                    </a:solidFill>
                  </a:tcPr>
                </a:tc>
              </a:tr>
              <a:tr h="78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несение о угрозе (прогнозе) возникновения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оводители организаций  -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техногенных Ч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едателю КЧС и ПБ райо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едлен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оводители районов – о природных и биолого – соц.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бернато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едатель КЧС рай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едателю КЧС и ПБ  об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2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несение о факте и основных параметров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82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несение о мерах по защите населения и территорий, ведения АСД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сьменно не позднее 2 часов с момента уведомления о факте возникновения ЧС, в последующем ежесуточ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несение о силах и средствах, задействованных для ликвидации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5" name="Text Box 100"/>
          <p:cNvSpPr/>
          <p:nvPr/>
        </p:nvSpPr>
        <p:spPr>
          <a:xfrm>
            <a:off x="468360" y="54936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49"/>
          <p:cNvSpPr/>
          <p:nvPr/>
        </p:nvSpPr>
        <p:spPr>
          <a:xfrm>
            <a:off x="390960" y="620640"/>
            <a:ext cx="85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яется приказом МЧС России от 25.07.96 №427 « О введение в действие табеля срочных донесен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95280" y="836640"/>
            <a:ext cx="8424720" cy="550188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окументы по организации системы предупреждения и ликвидации ЧС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( организационные документы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руководителя объекта о создании КЧС и П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ение о КЧС и П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окументы по управлению мероприятиями и силами  по предупреждению и ликвидации ЧС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(оперативные документы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 действий по предупреждению и ликвидации Ч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довой план работы комисси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 -  график работы комиссии в Ч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ы служб  объекта по обеспечению мероприятий по П и Л ЧС  (в мирное врем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ы (планы) объекта, райо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95280" y="189000"/>
            <a:ext cx="8424720" cy="459720"/>
          </a:xfrm>
          <a:prstGeom prst="rect">
            <a:avLst/>
          </a:prstGeom>
          <a:solidFill>
            <a:srgbClr val="6d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Документация  КЧС и ПБ объ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539640" y="333360"/>
            <a:ext cx="8425080" cy="625140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Рабочие документы комиссии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(оперативно–управленческие документы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 оповещения и сбора личного сост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 управления и свя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ель срочных донес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 размещения членов комиссии в пункте 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нкциональные обязанности членов коми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ы приказов и распоря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авочник телеф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ие тетради членов коми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ы оперативной групп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V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  Отчетно –информационные доку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несения, отчеты, сообщения, сво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уч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Справочные доку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струкции по действиям дежурно – диспетчерских служб в Ч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ы, графики, схемы, справки, опис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дарты в области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324000" y="258840"/>
            <a:ext cx="8569080" cy="599832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иповой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еречень документов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находящихся в папках председателя комиссии объекта  и его замест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Папка с документами председателя КЧС и П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нкциональные обяза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сок членов коми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 мероприятий по ликвидации последствий  возможных Ч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ая карта с нанесенной возможной обстановкой, группировкой сил и средств, привлекаемой для ликвидации последствий Ч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ы (бланки) приказов, распоряжений на проведение мероприятий в случае возникновения ЧС мирног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а приказа на выдвижение территориальных формирований ГО (сил РСЧС) в район Ч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а приказа на проведение АСДН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авочный матер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24000" y="404640"/>
            <a:ext cx="8497800" cy="604692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словия для получения положительной оценки при проверке деятельности объектового звена РСЧ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а КЧС и ПБ, утверждено Положение о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ланирована работа коми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просы предупреждения ЧС систематически рассматриваются на заседаниях комиссии, имеются отчетные документы, организован контроль за принимаемыми реш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ы оперативные группы для действий в ЧС, обеспеченные минимально необходимыми средствами связи, транспортом, организована их подготов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иссия осуществляет руководство разработкой и выполнением норм и правил инженерно-технических мероприятий (ИТМ) 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иссия, ОУ по ГОЧС способны организовать выполнение комплекса мероприятий радиационной и химической защ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50920" y="333360"/>
            <a:ext cx="8208720" cy="825480"/>
          </a:xfrm>
          <a:prstGeom prst="rect">
            <a:avLst/>
          </a:prstGeom>
          <a:solidFill>
            <a:srgbClr val="fafdcf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Функциональные обязанности председателя КЧС и ПБ объ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95280" y="1125360"/>
            <a:ext cx="8497800" cy="562428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дседатель комисс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твечает за организацию работы комиссии и готовность к выполнению возложенных на неё задач, организацию управления, обеспечивает контроль за реализацией мероприятий, направленных на предупреждение ЧС, а в случаях их возникновения отвечает за ликвидацию последствий ЧС и снижению ущерба от 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н обяза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нать обстановку, задачи, стоящие перед комиссией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ординировать деятельность по осуществлению единой государственной политики в области предупреждения и ликвидации ЧС на территории объек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ководить деятельностью комиссии  и организовывать подготовку её членов, формирований и персонала объекта к действиям в Ч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являть источники опасности на объекте, прогнозировать последствия возможных ЧС на нем и принимать меры по их предотвращению или снижению ущерб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овывать разработку и реализацию мер, направленных на снижение вероятности аварий   и катастроф, и повышение устойчивости работы объек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одить занятия и тренировки с членами комиссии по совершенствованию знаний ими плана действий по предупреждению и ликвидации  Ч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ководить организацией защиты персонала объекта от Ч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50920" y="1268280"/>
            <a:ext cx="8497800" cy="534060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лавный инжене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чает за практическую реализацию мероприятий, направленных на снижение опасности возникновения ЧС и ущерба от них, а также за организацию АСДНР при ликвидации последствий Ч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н обяза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ь работой технических служб объекта по прогнозированию возможных аварий, катастроф, стихийных бедствий, оценке их последствий, определению размеров ущерб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овать мероприятия, направленные на снижение опасности возникновения ЧС и ущерба от них, контролировать их реализац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атывать и вносить на рассмотрение комиссии мероприятия по повышению надежности и устойчивости  функционирования объекта, составлять типовые планы ликвидации возможных Ч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товить персонал технических служб и формирований ГО к действиям в Ч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тсутствии председателя комиссии исполнять его обяза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24000" y="260280"/>
            <a:ext cx="8496000" cy="82548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Функциональные обязанности заместителя председателя КЧС и ПБ объекта - главного инжен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79280" y="765000"/>
            <a:ext cx="8785440" cy="592740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Начальник отдела (сектора) по делам ГОЧС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вечает за разработку и своевременную корректировку плана действий по предупреждению и ликвидации ЧС природного и техногенного характера и плана ГО, координацию работ по планированию во всех структурных подразделениях объекта, обеспечение готовности сил и средств для проведения АСДНР, обеспечение устойчивого управления, организацию и состояние связи и оповещения, организацию согласованной работы комиссии, штаба и служ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Он обязан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о руководить разработкой плана действий по предупреждению и ликвидации ЧС, своевременно его корректировать, составлять ежегодно план работы комиссии по предупреждению и ликвид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С и контролировать его выполнение по указанию председателя комисс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держивать в готовности пункт управления объекта, систему управления, связи и оповещения, периодически проводить тренировки по оповещению и сбору членов комиссии  по распоряжению её председател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овывать подготовку  руководителей, служб и формирований  к действиям в ЧС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водить работу по укомплектованию, оснащению и учету формирований повышенной готовности, обеспечивать их постоянную готовность к действиям в ЧС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ководить проведением мероприятий по коллективной, радиационной, химической, медицинской и противопожарной  защите, осуществлять контроль и наблюдение за состоянием окружающей сред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уществлять контроль за содержанием и использованием защитных сооружений, хранением и использованием в исправном состоянии СИЗ,  приборов РХР и Д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оевременно предоставлять в вышестоящие органы управления по делам ГОЧС сведения согласно табелю срочных донес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овывать и поддерживать взаимодействие с органами управления ГОЧС соседних объектов и органами военного 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79280" y="0"/>
            <a:ext cx="8640720" cy="70380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Функциональные обязанности заместителя  председателя КЧС и ПБ – начальника  отдела (сектора)  по делам ГОЧС 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39760" y="1413000"/>
            <a:ext cx="8785080" cy="4972680"/>
          </a:xfrm>
          <a:prstGeom prst="rect">
            <a:avLst/>
          </a:prstGeom>
          <a:solidFill>
            <a:srgbClr val="fafd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30.12.03. № 7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 единой государственной системе предупреждения и ликвидации чрезвычайных ситуаций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27.05.2007. № 33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    внесении  изменений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новления Правительства РФ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30.12.03. № 794».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каз МЧС РФ от 03.03.2005  № 125 «Об утверждении Инструкции по проверке и оценке состояния функциональных и территориальных подсистем единой государственной системы предупреждения и ликвидации чрезвычайных ситуаций (РСЧС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 Учебное пособие: «Организация работы КЧС и ПБ объекта, района (города)». Издат. «Военные знания». 201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19240" y="284040"/>
            <a:ext cx="8642160" cy="703440"/>
          </a:xfrm>
          <a:prstGeom prst="rect">
            <a:avLst/>
          </a:prstGeom>
          <a:gradFill rotWithShape="0">
            <a:gsLst>
              <a:gs pos="0">
                <a:srgbClr val="898b72"/>
              </a:gs>
              <a:gs pos="50000">
                <a:srgbClr val="fafdcf"/>
              </a:gs>
              <a:gs pos="100000">
                <a:srgbClr val="898b72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Литерату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324000" y="333360"/>
            <a:ext cx="8605800" cy="6149160"/>
          </a:xfrm>
          <a:prstGeom prst="rect">
            <a:avLst/>
          </a:prstGeom>
          <a:solidFill>
            <a:srgbClr val="faf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Функциональные типовые обязанности члена КЧС и ПБ объ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лен комиссии в соответствии с его предназначением отвечает за своевременное выполнение мероприятий, направленных на исключение возможности возникновения на объекте ЧС, а в случае их возникновения – максимальное снижение ущерба от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Он обяза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овать в разработке и корректировке плана действий по предупреждению и ликвидации Ч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атывать и корректировать план службы по обеспечению мероприятий предупреждению и ликвидации ЧС в мирное врем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омплектовывать формирования службы и оснащать их табельным имуществ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овывать обучение личного состава формирований служб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ть готовность службы к выполнению задач в Ч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228600" y="1168560"/>
            <a:ext cx="8686800" cy="452880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1"/>
          <p:cNvSpPr/>
          <p:nvPr/>
        </p:nvSpPr>
        <p:spPr>
          <a:xfrm>
            <a:off x="214200" y="1500120"/>
            <a:ext cx="85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Начальник БОУ Вологод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«УМЦ  по ГО и ЧС Вологодской област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Кулев Сергей 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заместитель начальника БОУ Вологод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«УМЦ  по ГО и ЧС Вологодской област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Тюков  Николай  Васил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телефон (8-8172) 72-45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1285920"/>
            <a:ext cx="8856720" cy="5275440"/>
          </a:xfrm>
          <a:prstGeom prst="rect">
            <a:avLst/>
          </a:prstGeom>
          <a:solidFill>
            <a:srgbClr val="fafd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иссии по предупреждению и ликвидации ЧС и обеспечению пожарной безопасности (КЧС и ПБ) являются координационными органами управления РСЧ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ЧС и ПБ предназнач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для организации и проведения мероприятий по предупреждению и ликвидации чрезвычайных ситуаций, уменьшения ущерба от возможных последствий аварий, катастроф и стихийных бедст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для управления силами РСЧС при ликвидации чрезвычайных ситуаций и всестороннего обеспечения и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14200" y="214200"/>
            <a:ext cx="8642520" cy="703440"/>
          </a:xfrm>
          <a:prstGeom prst="rect">
            <a:avLst/>
          </a:prstGeom>
          <a:gradFill rotWithShape="0">
            <a:gsLst>
              <a:gs pos="0">
                <a:srgbClr val="898b72"/>
              </a:gs>
              <a:gs pos="50000">
                <a:srgbClr val="fafdcf"/>
              </a:gs>
              <a:gs pos="100000">
                <a:srgbClr val="898b72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азначение КЧС и П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42920" y="500040"/>
            <a:ext cx="8785080" cy="5885280"/>
          </a:xfrm>
          <a:prstGeom prst="rect">
            <a:avLst/>
          </a:prstGeom>
          <a:solidFill>
            <a:srgbClr val="fafd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зование, реорганизация и упразднение КЧС и ПБ, назначение руководителей, утверждение персонального состава и определение их компетентности осуществляется  руководителем районной админист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петенция и полномочия КЧС и ПБ определяются положением о них или в решении об их образо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ЧС и ПБ возглавляются руководителями ОМСУ или их заместителям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ст. 8 Постановления Правительства РФ от 30.12.2003 г. №79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ЧС и ПБ формируется из числа руководителей структурных подразделений администрации, руководителей правоохранительных органов, а также организаций, обеспечивающих деятельность районного хозяйства, энергетики, транспорта, связи и других, действующих на территории рай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0:42:30Z</dcterms:created>
  <dc:creator>User</dc:creator>
  <dc:description/>
  <dc:language>en-US</dc:language>
  <cp:lastModifiedBy>Admin</cp:lastModifiedBy>
  <dcterms:modified xsi:type="dcterms:W3CDTF">2018-02-12T08:59:58Z</dcterms:modified>
  <cp:revision>114</cp:revision>
  <dc:subject/>
  <dc:title>Санкт-Петербургский учебно-методический центр  по ГО, ЧС и ПБ  </dc:title>
</cp:coreProperties>
</file>